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5C7-31F0-4F23-B786-9DD2CDE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91A-982C-4444-8509-5958DC8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437-C63A-43AF-8F9E-2B90651A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4D2-AC1B-4BFF-8E05-1C05020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17B-31F5-47FE-8252-639A204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9BF-B6FA-4D8D-BBC4-DB45983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B11-C2C2-4748-BFCC-0A942F4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CF7-5FEF-4333-916C-617D68F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7EE-1AC1-4BB7-9718-7C52ADC4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EAD-4E07-403C-AA01-720BDCD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451-32D9-424B-BA08-2948983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7AA-0FB7-44DF-974B-F66960C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9E1-5BC1-47B3-8BD4-FEC62CEA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the meaning of unknown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200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do you think it is important to know a lot of wor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7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457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ncus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rfora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3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nser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371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xpedi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3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erme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9907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pan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914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cess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 you read, try to learn two new word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 us know if you come across our prefixes of the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 on your exit s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, com= ________, together,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,ex-,ef-=  Out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er= ____________, ___________, w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/Com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/Com= with, together, ver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304920"/>
          <a:ext cx="8229600" cy="617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, ex-, ef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, 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89240" y="228600"/>
            <a:ext cx="4464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= through, thorough, wro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120" y="609480"/>
            <a:ext cx="1981080" cy="1752840"/>
          </a:xfrm>
          <a:custGeom>
            <a:avLst/>
            <a:gdLst>
              <a:gd name="textAreaLeft" fmla="*/ 113400 w 1981080"/>
              <a:gd name="textAreaRight" fmla="*/ 1867680 w 19810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4412" h="21600">
                <a:moveTo>
                  <a:pt x="0" y="0"/>
                </a:moveTo>
                <a:lnTo>
                  <a:pt x="24412" y="0"/>
                </a:lnTo>
                <a:lnTo>
                  <a:pt x="24412" y="21600"/>
                </a:lnTo>
                <a:lnTo>
                  <a:pt x="0" y="21600"/>
                </a:lnTo>
                <a:close/>
              </a:path>
              <a:path fill="lightenLess" w="24412" h="21600">
                <a:moveTo>
                  <a:pt x="0" y="0"/>
                </a:moveTo>
                <a:lnTo>
                  <a:pt x="24412" y="0"/>
                </a:lnTo>
                <a:lnTo>
                  <a:pt x="23012" y="1400"/>
                </a:lnTo>
                <a:lnTo>
                  <a:pt x="1400" y="1400"/>
                </a:lnTo>
                <a:close/>
              </a:path>
              <a:path fill="darken" w="24412" h="21600">
                <a:moveTo>
                  <a:pt x="24412" y="0"/>
                </a:moveTo>
                <a:lnTo>
                  <a:pt x="24412" y="21600"/>
                </a:lnTo>
                <a:lnTo>
                  <a:pt x="23012" y="20200"/>
                </a:lnTo>
                <a:lnTo>
                  <a:pt x="23012" y="1400"/>
                </a:lnTo>
                <a:close/>
              </a:path>
              <a:path fill="darkenLess" w="24412" h="21600">
                <a:moveTo>
                  <a:pt x="24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2" y="20200"/>
                </a:lnTo>
                <a:close/>
              </a:path>
              <a:path fill="lighten" w="24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0948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9480"/>
            <a:ext cx="1904760" cy="1676520"/>
          </a:xfrm>
          <a:custGeom>
            <a:avLst/>
            <a:gdLst>
              <a:gd name="textAreaLeft" fmla="*/ 108360 w 1904760"/>
              <a:gd name="textAreaRight" fmla="*/ 1796400 w 19047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0" h="21600">
                <a:moveTo>
                  <a:pt x="0" y="0"/>
                </a:moveTo>
                <a:lnTo>
                  <a:pt x="24540" y="0"/>
                </a:lnTo>
                <a:lnTo>
                  <a:pt x="24540" y="21600"/>
                </a:lnTo>
                <a:lnTo>
                  <a:pt x="0" y="21600"/>
                </a:lnTo>
                <a:close/>
              </a:path>
              <a:path fill="lightenLess" w="24540" h="21600">
                <a:moveTo>
                  <a:pt x="0" y="0"/>
                </a:moveTo>
                <a:lnTo>
                  <a:pt x="24540" y="0"/>
                </a:lnTo>
                <a:lnTo>
                  <a:pt x="23140" y="1400"/>
                </a:lnTo>
                <a:lnTo>
                  <a:pt x="1400" y="1400"/>
                </a:lnTo>
                <a:close/>
              </a:path>
              <a:path fill="darken" w="24540" h="21600">
                <a:moveTo>
                  <a:pt x="24540" y="0"/>
                </a:moveTo>
                <a:lnTo>
                  <a:pt x="24540" y="21600"/>
                </a:lnTo>
                <a:lnTo>
                  <a:pt x="23140" y="20200"/>
                </a:lnTo>
                <a:lnTo>
                  <a:pt x="23140" y="1400"/>
                </a:lnTo>
                <a:close/>
              </a:path>
              <a:path fill="darkenLess" w="24540" h="21600">
                <a:moveTo>
                  <a:pt x="2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0" y="20200"/>
                </a:lnTo>
                <a:close/>
              </a:path>
              <a:path fill="lighten" w="2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1981080" cy="1676520"/>
          </a:xfrm>
          <a:custGeom>
            <a:avLst/>
            <a:gdLst>
              <a:gd name="textAreaLeft" fmla="*/ 108360 w 1981080"/>
              <a:gd name="textAreaRight" fmla="*/ 1872720 w 19810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666880"/>
            <a:ext cx="1904760" cy="1600200"/>
          </a:xfrm>
          <a:custGeom>
            <a:avLst/>
            <a:gdLst>
              <a:gd name="textAreaLeft" fmla="*/ 103680 w 1904760"/>
              <a:gd name="textAreaRight" fmla="*/ 1801080 w 19047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5710" h="21600">
                <a:moveTo>
                  <a:pt x="0" y="0"/>
                </a:moveTo>
                <a:lnTo>
                  <a:pt x="25710" y="0"/>
                </a:lnTo>
                <a:lnTo>
                  <a:pt x="25710" y="21600"/>
                </a:lnTo>
                <a:lnTo>
                  <a:pt x="0" y="21600"/>
                </a:lnTo>
                <a:close/>
              </a:path>
              <a:path fill="lightenLess" w="25710" h="21600">
                <a:moveTo>
                  <a:pt x="0" y="0"/>
                </a:moveTo>
                <a:lnTo>
                  <a:pt x="25710" y="0"/>
                </a:lnTo>
                <a:lnTo>
                  <a:pt x="24310" y="1400"/>
                </a:lnTo>
                <a:lnTo>
                  <a:pt x="1400" y="1400"/>
                </a:lnTo>
                <a:close/>
              </a:path>
              <a:path fill="darken" w="25710" h="21600">
                <a:moveTo>
                  <a:pt x="25710" y="0"/>
                </a:moveTo>
                <a:lnTo>
                  <a:pt x="25710" y="21600"/>
                </a:lnTo>
                <a:lnTo>
                  <a:pt x="24310" y="20200"/>
                </a:lnTo>
                <a:lnTo>
                  <a:pt x="24310" y="1400"/>
                </a:lnTo>
                <a:close/>
              </a:path>
              <a:path fill="darkenLess" w="25710" h="21600">
                <a:moveTo>
                  <a:pt x="25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0" y="20200"/>
                </a:lnTo>
                <a:close/>
              </a:path>
              <a:path fill="lighten" w="25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666880"/>
            <a:ext cx="1981440" cy="1676520"/>
          </a:xfrm>
          <a:custGeom>
            <a:avLst/>
            <a:gdLst>
              <a:gd name="textAreaLeft" fmla="*/ 108360 w 1981440"/>
              <a:gd name="textAreaRight" fmla="*/ 1873080 w 19814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8" h="21600">
                <a:moveTo>
                  <a:pt x="0" y="0"/>
                </a:moveTo>
                <a:lnTo>
                  <a:pt x="25528" y="0"/>
                </a:lnTo>
                <a:lnTo>
                  <a:pt x="25528" y="21600"/>
                </a:lnTo>
                <a:lnTo>
                  <a:pt x="0" y="21600"/>
                </a:lnTo>
                <a:close/>
              </a:path>
              <a:path fill="lightenLess" w="25528" h="21600">
                <a:moveTo>
                  <a:pt x="0" y="0"/>
                </a:moveTo>
                <a:lnTo>
                  <a:pt x="25528" y="0"/>
                </a:lnTo>
                <a:lnTo>
                  <a:pt x="24128" y="1400"/>
                </a:lnTo>
                <a:lnTo>
                  <a:pt x="1400" y="1400"/>
                </a:lnTo>
                <a:close/>
              </a:path>
              <a:path fill="darken" w="25528" h="21600">
                <a:moveTo>
                  <a:pt x="25528" y="0"/>
                </a:moveTo>
                <a:lnTo>
                  <a:pt x="25528" y="21600"/>
                </a:lnTo>
                <a:lnTo>
                  <a:pt x="24128" y="20200"/>
                </a:lnTo>
                <a:lnTo>
                  <a:pt x="24128" y="1400"/>
                </a:lnTo>
                <a:close/>
              </a:path>
              <a:path fill="darkenLess" w="25528" h="21600">
                <a:moveTo>
                  <a:pt x="25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8" y="20200"/>
                </a:lnTo>
                <a:close/>
              </a:path>
              <a:path fill="lighten" w="25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800600"/>
            <a:ext cx="1981080" cy="1576440"/>
          </a:xfrm>
          <a:custGeom>
            <a:avLst/>
            <a:gdLst>
              <a:gd name="textAreaLeft" fmla="*/ 101880 w 1981080"/>
              <a:gd name="textAreaRight" fmla="*/ 1879200 w 1981080"/>
              <a:gd name="textAreaTop" fmla="*/ 101880 h 1576440"/>
              <a:gd name="textAreaBottom" fmla="*/ 1474560 h 157644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724280"/>
            <a:ext cx="1981080" cy="1600200"/>
          </a:xfrm>
          <a:custGeom>
            <a:avLst/>
            <a:gdLst>
              <a:gd name="textAreaLeft" fmla="*/ 103680 w 1981080"/>
              <a:gd name="textAreaRight" fmla="*/ 1877400 w 19810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5340" y="1400"/>
                </a:lnTo>
                <a:lnTo>
                  <a:pt x="1400" y="1400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5340" y="20200"/>
                </a:lnTo>
                <a:lnTo>
                  <a:pt x="25340" y="1400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0" y="20200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a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380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27:22Z</dcterms:created>
  <dc:creator>Administrator</dc:creator>
  <dc:description/>
  <dc:language>en-US</dc:language>
  <cp:lastModifiedBy>Administrator</cp:lastModifiedBy>
  <dcterms:modified xsi:type="dcterms:W3CDTF">2010-09-15T19:12:53Z</dcterms:modified>
  <cp:revision>6</cp:revision>
  <dc:subject/>
  <dc:title>Do Now 9-15 I can discover the meaning of unknown words.</dc:title>
</cp:coreProperties>
</file>